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321-4F21-417B-BFC2-B8D9377D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C88-39F0-4703-A284-D952BE04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287-55AB-4394-AB8E-1F7BCC8E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E12-4ABF-4597-AD2A-1501EA4C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B82-72C8-4036-AE0B-D93CDA84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310-AFB9-4FEC-B492-B23FFB81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773-8505-4E40-9FED-3352E1A0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F18-35C8-4807-93C7-A5117132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3BC-2C97-4B5E-A00E-870030C2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736-BDCD-494B-81A4-55E3F50F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4D0-C7DC-410C-972B-795891D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24F-FF61-4FD0-902D-84E82A79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37DA-5F00-4C81-BFB7-F8BA1F8B4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2003</a:t>
            </a:r>
            <a:r>
              <a:rPr b="0" lang="zh-CN" sz="4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年度研究発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○○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大学科学技術研究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13372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定例学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今回発表する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の研究目標と評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研究内容の紹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予算と費用研究内容の発表（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9:54:56Z</dcterms:created>
  <dc:creator>鈴木　誠</dc:creator>
  <dc:description/>
  <dc:language>en-US</dc:language>
  <cp:lastModifiedBy>鈴木　誠</cp:lastModifiedBy>
  <dcterms:modified xsi:type="dcterms:W3CDTF">2003-11-26T07:41:07Z</dcterms:modified>
  <cp:revision>4</cp:revision>
  <dc:subject/>
  <dc:title>2003年度研究発表</dc:title>
</cp:coreProperties>
</file>