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3E8-72A9-40B6-8262-EC5D6672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E1A-F215-4B96-BFE3-47FEE064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B88-DC7E-4C6B-9F7E-CD656104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FB9-E447-4324-81A5-C79E8198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BB37-78AA-4AC6-9A8F-11A46304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8C11-6ADA-43DE-BABB-3F5E816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B6A0-2782-4857-B940-FACE0EEA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5972-9D78-4C48-885F-974F0058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C94C-031F-41D0-BACE-0EE6F1C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D5F1-13D5-4499-852E-29D2DC5B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7F4E-BA20-4417-9026-D3DEE7A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B35-C5E8-45D6-9CA3-6FDEB267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BFAD-6E0B-494B-A849-41013166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46E8-14E7-4F71-9955-EA4977D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7C31-E48B-4E09-A3A1-A32D9736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8A00-3667-4E96-BAB4-EA300E3E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CC73-0F14-4397-8E92-799DEA98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42E-13A1-44BA-9941-EECC2EDC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E26-7C09-43BF-AFF1-2C6ED68E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FF4-0705-4287-8C29-ADF71AD0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778-AE7A-49FD-82BB-2368B443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3C1-E071-44B8-9D97-E9A82999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96C-B434-4723-A498-AEEA7A5D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064-DE43-4B44-9F30-71AF7C8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0E79-BEA1-46CE-B14D-749D117FC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F31D-17B9-458E-924B-7A1467E73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効果と売上実績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広告デザイン研究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効果の分類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売上に貢献す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知名度を上げ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企業イメージを向上す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告知を行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記憶に残らな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社の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広告料推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効果的な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とは？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0880" y="150192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47640" y="606744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この写真から何を連想しますか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効果的な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M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とは？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目で訴求内容が伝わ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視聴者に疑問点を残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視聴者を驚かせ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効果の循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171160" y="1924200"/>
            <a:ext cx="4728600" cy="4095360"/>
            <a:chOff x="2171160" y="1924200"/>
            <a:chExt cx="4728600" cy="4095360"/>
          </a:xfrm>
        </p:grpSpPr>
        <p:sp>
          <p:nvSpPr>
            <p:cNvPr id="134" name="_s56328"/>
            <p:cNvSpPr/>
            <p:nvPr/>
          </p:nvSpPr>
          <p:spPr>
            <a:xfrm>
              <a:off x="3092400" y="192420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e7c3"/>
                </a:gs>
              </a:gsLst>
              <a:lin ang="81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56329"/>
            <p:cNvSpPr/>
            <p:nvPr/>
          </p:nvSpPr>
          <p:spPr>
            <a:xfrm rot="7200000">
              <a:off x="3486600" y="260568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e7c3"/>
                </a:gs>
              </a:gsLst>
              <a:lin ang="9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56331"/>
            <p:cNvSpPr/>
            <p:nvPr/>
          </p:nvSpPr>
          <p:spPr>
            <a:xfrm rot="14400000">
              <a:off x="2699640" y="260568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e7c3"/>
                </a:gs>
              </a:gsLst>
              <a:lin ang="153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56326"/>
            <p:cNvSpPr/>
            <p:nvPr/>
          </p:nvSpPr>
          <p:spPr>
            <a:xfrm>
              <a:off x="5326200" y="245124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話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56327"/>
            <p:cNvSpPr/>
            <p:nvPr/>
          </p:nvSpPr>
          <p:spPr>
            <a:xfrm>
              <a:off x="3959280" y="482436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認知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56330"/>
            <p:cNvSpPr/>
            <p:nvPr/>
          </p:nvSpPr>
          <p:spPr>
            <a:xfrm>
              <a:off x="2585880" y="245268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</a:rPr>
                <a:t>売上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0:45:45Z</dcterms:created>
  <dc:creator>鈴木　誠</dc:creator>
  <dc:description/>
  <dc:language>en-US</dc:language>
  <cp:lastModifiedBy>鈴木　誠</cp:lastModifiedBy>
  <dcterms:modified xsi:type="dcterms:W3CDTF">2003-12-08T06:07:35Z</dcterms:modified>
  <cp:revision>8</cp:revision>
  <dc:subject/>
  <dc:title>CM効果と売上実績</dc:title>
</cp:coreProperties>
</file>