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5CC-60D0-4C70-A4BB-731C9430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6E3-72E2-4FFA-93DA-49C7EB9B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2F5-DE1B-4B3E-AAB4-163A4BAF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579-0ACD-435C-8521-120BA98C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9A4F-0AEB-4109-8BE4-0D8E2836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C108-518D-4CC1-8B11-B80B70D6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E098-C02B-4FDA-8F8B-25A40A19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DAAB-31A5-4DEB-8F61-773E66D9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3590-222D-471A-90A6-B08687FB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F547-2FAB-4E6D-8724-54F115BB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DAE6-488D-4BD2-9D55-61373BE3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5C6-C94F-4ACC-95B1-EC0D5A65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D026-5F1D-4428-8E96-597D5EB9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83AB-342D-4139-A637-CF5DAFB8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2000-3C80-4EDE-9F43-03454986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2B7D-B0AA-4865-A9DF-57DC25E4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467F-D0B6-4077-A647-42E6BEA1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83C-956E-45B2-BBA0-400CAF0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C49-0FB6-4ABF-9378-84BEABA9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F99-3E0A-41F3-8055-5C06E7F1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E32-E1C6-44BD-B18D-071D570D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D93-E956-4A5A-AD3E-1068ACAC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918-6D75-48EB-A425-E230BB9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ABF-CF52-4369-AD8B-E8FE9E3A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AC78-7C50-4838-9CC9-D6C79A19A4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9513-02C3-4E23-BF56-E92C37FE97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2003</a:t>
            </a:r>
            <a:r>
              <a:rPr b="0" lang="zh-CN" sz="54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年度研究発表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○○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大学科学技術研究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213372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回定例学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Arial"/>
              </a:rPr>
              <a:t>今回発表する内容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度の研究目標と評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度研究内容の紹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予算と費用研究内容の発表（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分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9:54:56Z</dcterms:created>
  <dc:creator>鈴木　誠</dc:creator>
  <dc:description/>
  <dc:language>en-US</dc:language>
  <cp:lastModifiedBy>鈴木　誠</cp:lastModifiedBy>
  <dcterms:modified xsi:type="dcterms:W3CDTF">2003-11-26T11:24:37Z</dcterms:modified>
  <cp:revision>6</cp:revision>
  <dc:subject/>
  <dc:title>2003年度研究発表</dc:title>
</cp:coreProperties>
</file>