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C9D-949C-4E2C-8379-3FC208B0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E16-EDEB-4188-9D4F-E1AD6947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A8C-BAE4-44E5-BF1D-95BB4BF0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A81-6063-4854-AD72-41983BF3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9386-C342-45EF-9F53-DBC42579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8B30-EF7B-4E41-981A-7F964D6B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DA4D-DE2D-4E15-8EAF-6FAE60F1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1F6E-C16A-4AF3-9E82-04AEFD46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74AA-62DF-44D2-868A-471271EB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4058-EE70-4200-9250-C6ED786D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99D5-7410-4249-9044-9C9791A5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AF8-28CE-437F-9C66-8CDA402B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2BA4-2FC4-4097-91C6-D371AAE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006B-F177-4076-9F31-9C3816E2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3513-E69A-4BC4-A17D-3A3D7AAA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CCE1-1DC0-4343-A17A-1FAC9CF6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5BA7-7E5F-42CC-A401-E82A9DE1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E23-B934-4B40-B76F-E1AFC9C4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DC7-1F07-4755-861B-7D98F7FB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F90-011F-4AAE-A81C-A8E1DF90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006-8480-41AB-B0FB-DCFDB3C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5E3-2D1B-4E74-82E5-6D10DCB3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824-DDC8-4669-A0BB-1AE6639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287-4B82-406B-BC8F-DF649711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E421-93D1-4D6F-A7C3-E7D68731F1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569-F847-42A6-B530-A5486E1484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営業部門の組織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4960" y="1717560"/>
            <a:ext cx="7992360" cy="4247640"/>
            <a:chOff x="534960" y="1717560"/>
            <a:chExt cx="7992360" cy="4247640"/>
          </a:xfrm>
        </p:grpSpPr>
        <p:cxnSp>
          <p:nvCxnSpPr>
            <p:cNvPr id="89" name="_s3109"/>
            <p:cNvCxnSpPr>
              <a:stCxn id="90" idx="0"/>
              <a:endCxn id="91" idx="1"/>
            </p:cNvCxnSpPr>
            <p:nvPr/>
          </p:nvCxnSpPr>
          <p:spPr>
            <a:xfrm flipV="1">
              <a:off x="1554840" y="4806720"/>
              <a:ext cx="2520" cy="38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" name="_s3105"/>
            <p:cNvCxnSpPr>
              <a:stCxn id="93" idx="0"/>
              <a:endCxn id="94" idx="2"/>
            </p:cNvCxnSpPr>
            <p:nvPr/>
          </p:nvCxnSpPr>
          <p:spPr>
            <a:xfrm flipV="1" rot="16200000">
              <a:off x="5527800" y="3245760"/>
              <a:ext cx="386640" cy="1190520"/>
            </a:xfrm>
            <a:prstGeom prst="bentConnector3">
              <a:avLst>
                <a:gd name="adj1" fmla="val 294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" name="_s3103"/>
            <p:cNvCxnSpPr>
              <a:stCxn id="96" idx="0"/>
              <a:endCxn id="94" idx="1"/>
            </p:cNvCxnSpPr>
            <p:nvPr/>
          </p:nvCxnSpPr>
          <p:spPr>
            <a:xfrm flipH="1" flipV="1" rot="5400000">
              <a:off x="4337640" y="3245400"/>
              <a:ext cx="386640" cy="1191240"/>
            </a:xfrm>
            <a:prstGeom prst="bentConnector3">
              <a:avLst>
                <a:gd name="adj1" fmla="val 294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" name="_s3101"/>
            <p:cNvCxnSpPr>
              <a:stCxn id="91" idx="0"/>
              <a:endCxn id="98" idx="1"/>
            </p:cNvCxnSpPr>
            <p:nvPr/>
          </p:nvCxnSpPr>
          <p:spPr>
            <a:xfrm flipV="1">
              <a:off x="1554840" y="3647880"/>
              <a:ext cx="2520" cy="38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" name="_s3095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825520" y="1194120"/>
              <a:ext cx="386640" cy="2976840"/>
            </a:xfrm>
            <a:prstGeom prst="bentConnector3">
              <a:avLst>
                <a:gd name="adj1" fmla="val 2954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" name="_s3094"/>
            <p:cNvCxnSpPr>
              <a:stCxn id="94" idx="0"/>
              <a:endCxn id="101" idx="1"/>
            </p:cNvCxnSpPr>
            <p:nvPr/>
          </p:nvCxnSpPr>
          <p:spPr>
            <a:xfrm flipV="1" rot="16200000">
              <a:off x="4635360" y="2384280"/>
              <a:ext cx="386640" cy="596160"/>
            </a:xfrm>
            <a:prstGeom prst="bentConnector3">
              <a:avLst>
                <a:gd name="adj1" fmla="val 2954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_s3093"/>
            <p:cNvCxnSpPr>
              <a:stCxn id="98" idx="0"/>
              <a:endCxn id="101" idx="0"/>
            </p:cNvCxnSpPr>
            <p:nvPr/>
          </p:nvCxnSpPr>
          <p:spPr>
            <a:xfrm flipH="1" flipV="1" rot="5400000">
              <a:off x="2849760" y="1194480"/>
              <a:ext cx="386640" cy="2976480"/>
            </a:xfrm>
            <a:prstGeom prst="bentConnector3">
              <a:avLst>
                <a:gd name="adj1" fmla="val 2954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" name="_s3089"/>
            <p:cNvSpPr/>
            <p:nvPr/>
          </p:nvSpPr>
          <p:spPr>
            <a:xfrm>
              <a:off x="3510720" y="171756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営業本部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3090"/>
            <p:cNvSpPr/>
            <p:nvPr/>
          </p:nvSpPr>
          <p:spPr>
            <a:xfrm>
              <a:off x="534960" y="287604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関東支部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3091"/>
            <p:cNvSpPr/>
            <p:nvPr/>
          </p:nvSpPr>
          <p:spPr>
            <a:xfrm>
              <a:off x="4106160" y="287604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関西支部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092"/>
            <p:cNvSpPr/>
            <p:nvPr/>
          </p:nvSpPr>
          <p:spPr>
            <a:xfrm>
              <a:off x="6486840" y="287604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海外部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00"/>
            <p:cNvSpPr/>
            <p:nvPr/>
          </p:nvSpPr>
          <p:spPr>
            <a:xfrm>
              <a:off x="534960" y="403452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8100000"/>
            </a:gradFill>
            <a:ln w="3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東京支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3102"/>
            <p:cNvSpPr/>
            <p:nvPr/>
          </p:nvSpPr>
          <p:spPr>
            <a:xfrm>
              <a:off x="2915640" y="403452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8100000"/>
            </a:gradFill>
            <a:ln w="3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大阪支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04"/>
            <p:cNvSpPr/>
            <p:nvPr/>
          </p:nvSpPr>
          <p:spPr>
            <a:xfrm>
              <a:off x="5296320" y="403452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8100000"/>
            </a:gradFill>
            <a:ln w="3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名古屋支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108"/>
            <p:cNvSpPr/>
            <p:nvPr/>
          </p:nvSpPr>
          <p:spPr>
            <a:xfrm>
              <a:off x="534960" y="5193000"/>
              <a:ext cx="2040480" cy="772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8100000"/>
            </a:gradFill>
            <a:ln w="3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Verdana"/>
                </a:rPr>
                <a:t>カスタマセンタ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2:10:17Z</dcterms:created>
  <dc:creator>鈴木　誠</dc:creator>
  <dc:description/>
  <dc:language>en-US</dc:language>
  <cp:lastModifiedBy>鈴木　誠</cp:lastModifiedBy>
  <dcterms:modified xsi:type="dcterms:W3CDTF">2003-11-27T12:52:32Z</dcterms:modified>
  <cp:revision>2</cp:revision>
  <dc:subject/>
  <dc:title>スライド 1</dc:title>
</cp:coreProperties>
</file>