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E73-A26B-4648-AB1C-1BF4BEE5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CDD-00B1-4965-8949-13669500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BC2-0478-48F7-B10A-7FF6356D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EFE-AA0E-4B29-927E-E5094288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C8E-136E-498C-9033-5A0AACCF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271-A1A7-4085-AADD-E01C78AE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1A80-3E83-47EA-9FFF-D6BB03CE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6FFF-6521-447E-8583-AE995528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BE99-6835-4817-813D-2447B7B4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3130-1FA3-4D32-B238-3AD83EEE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721-A5A5-44F6-89AE-6E723882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4C9-9BBC-49BF-BD78-CC28599C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CA55-65C8-4E75-99D5-97E5B2765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4488120" cy="4906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4171680" cy="232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4952520" y="22860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657600"/>
            <a:ext cx="38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9:06:03Z</dcterms:created>
  <dc:creator>Gili Mendel</dc:creator>
  <dc:description/>
  <dc:language>en-US</dc:language>
  <cp:lastModifiedBy>Gili Mendel</cp:lastModifiedBy>
  <dcterms:modified xsi:type="dcterms:W3CDTF">2005-03-22T19:24:10Z</dcterms:modified>
  <cp:revision>1</cp:revision>
  <dc:subject/>
  <dc:title>Slide 1</dc:title>
</cp:coreProperties>
</file>